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1BA-E975-480E-97F8-5B1A6C1E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4D5-3B5A-4A3E-87E5-32229024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F16EE-791B-4A31-99B0-950000C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9A5CF-A7A1-4E76-AC88-23F623F3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26821-8865-4D80-9FD2-7730DE67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E2624-10EB-41C1-AF28-3FBE315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4C80C-8763-4348-A21C-75F6B18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6BA5D1-2664-43E0-A540-C75608A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AC6B76-F33C-4E61-B673-A51DA577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D31FA-4CE5-4F06-B75D-270B6CAF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8C5818-40BF-457C-B0DE-F24233EE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87270-06D4-4126-9A13-A885DC0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102-5DAF-4795-9DB6-2EF7921D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960B6-21F9-443F-AC3B-AB4F98A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F5C97-6A77-4CDC-8573-1F0DF70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4873F-3DF1-4070-A633-76273A6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24335-DEB6-405A-92C4-4F52A328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987E5-6DFB-48D9-BC22-A0C264C4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3E654-25A8-496B-AFC4-17B63BD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2B10E-5236-4545-8167-E6E647A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C59F4-14AC-402A-9068-46FDBD9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B2AB2-D528-4F90-A530-36F0D9AF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4F431-C4E4-4092-93A2-7D2A9E22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36B-2143-4F8D-9DE2-6F179659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85F24-4EF9-4B63-9533-632B5600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90956-D56F-4147-A239-EF2F180D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F9894-0B2A-4C15-8353-D57AA5D2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14D78-92F7-498C-8CFE-CBD3EA15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E89C9-CAE5-41F6-9D9A-6ED5FE8A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891ED-F1BC-49A6-9C4C-AD3ED73C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8D249-98FB-4BDC-99DE-D779FFA9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ED0F2-34E1-4556-B510-651BA17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50BF-3B83-4E9D-8C00-007C2BA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BB7F1-56E1-4613-861F-A7746EF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FA94-733E-49CB-B599-5491D4E9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381D0-A316-435E-BA95-29F250C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5C45B-48CD-4CC6-AC8E-C3FDF286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B71A5-C153-4A1C-82F6-027CE214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E3C85-7598-45BD-A924-8DB11236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2AB25-A7DC-4818-91DD-9685B903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95107-1E86-4C5B-8BFA-1798387B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296CF-CA50-4CEB-8EAC-49E7F09C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FC53E-6690-435A-B971-5C893A5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06781-66D4-414F-B219-544B085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5FA9E-9A02-4500-B9D8-258ADD9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A3C0-3FD6-46B9-915A-4565D04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8A855-635D-4153-BD03-45DE279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DAA9A-2D8E-41E4-B6BA-6EC6AA1E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63EC0-97A5-4526-A0F0-901154BF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A8891-29AD-4C26-9852-73CBAE2A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B84F9-C46D-4688-93C7-11917E0B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ED8C-B098-4CBD-8EB6-DEF57E1F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D8DF-B05E-4D66-96EC-84C3011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BF37-0AE1-40BF-AB91-982567F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74F-E578-4E10-A57E-ACFA4F66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A85E-1780-495B-B7B0-B0481CD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656-5387-4E9E-BDD1-F13FF52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ACA5-6C72-410C-BE5A-030BDFF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7AF5-E486-44AB-B528-209D1CC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1447-26A7-4F60-9B6E-F07540AE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E62A-E5C2-430A-833B-D4EB0819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D80B-4278-4F3F-93D3-EAC364CC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0CA6-C2AE-47EF-B51D-8870D46E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49AB-FC2F-4756-AC29-63F49DA0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A4D7-D506-4D64-AC49-3C703BD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2942-BFEB-4BDD-8C9B-C69B0C91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0C75-A304-4C2F-842E-B3062D5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E7F-AE82-48B4-B243-B8FE84A7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8CBB-CEBC-46E5-B162-765820EF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9345-4611-4471-BA73-8B17AFE3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AA91-3B73-4852-BBC2-2F20385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4223-FE77-4877-8A03-AD3F89F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4105-CA17-4B3D-9782-321A526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EE3D-66DC-49D0-8777-118CF291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9AC6-0242-4F98-AD37-CD0C1C49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15D1C-B474-4DAF-B40C-59324674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B26EB-8D8A-40E0-BA74-020F9BA6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D7620-F616-4462-8CAE-F7B512C6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EFC-AA51-456E-B4B6-21AEA0D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FA3FD-D6D0-475A-AD65-9696B7A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4101B-07FE-4E12-A411-D6FC46C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577E5-4245-4218-BE11-D81AF68A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3BF0C-90C5-4C6E-8F1A-7680AC8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0E014-A093-4430-B353-3C5B77C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704F4-2F90-4842-998E-FB6EC6A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40611-0836-4C34-83BA-98380CB8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A1164-D5B0-47D1-AD95-50F10BE7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5659F-3211-43A2-AA25-C90833D3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943F8-CFE4-44F3-8910-C8B1F196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DAF-6EDF-40C5-BEB1-1165666F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0BEFE-9FDC-48F7-8741-11EB6C4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520EE-0917-4120-9305-2F7AB03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8BC1E-4625-4CAC-B605-B293FD7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9852C-3407-4EB6-A6F4-2C0B9EAE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53A85-8D0E-449E-A7AF-94A91503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728A7-9A67-421F-9CD5-CE19E03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A0E21-DCC4-4F3D-A90F-B87105E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411F0-C8B5-4363-A27E-EAB490CB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A8CDB-C205-46CB-97F6-3997D32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BDB69-E5F2-4C0B-A9A0-EAE1D1E0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717-00B1-49EB-9497-EC8BCC90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D8221-ADD6-44FF-A803-D7622252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3007-D8BE-41C7-8B07-C71270EE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AC438-D9E6-4621-8F95-614582E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D7045-CF9B-475D-981C-7C5CE6CE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D7F7-EB6E-4AC5-A09A-FF6FBF83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54432-8380-4B74-8EA5-0547907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A1C0B-D0D4-43AB-83C7-3DAE833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9302-8D3A-4D2E-9AF9-1D714D36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5F27-0E9A-478F-ADEA-B4BFF8C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CBA91-6A31-4A8A-8099-7939E95A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C3F-4E61-4A6D-8ECB-E02AEB1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1AE29-E58D-42D8-B3D5-93935770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121A-C421-4B1B-996F-87D3D996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945F0-A4BF-45A1-A48F-32160720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6F9876-04B4-4D21-89C3-61C21685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1D975D-A165-4258-832B-D2939FE0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5F03C1-EFC7-4FBD-A16D-3D444DB6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5F2AC-24CA-4F29-8D54-73C84180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DEDE95-089B-473E-9C02-65F9572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59A135-2DA3-4693-9ABD-A48C86B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13C023-F601-4DC6-B872-F0F4254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A75-982A-47F8-BC56-4B86C47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9A560F-97E5-4636-903F-1D180B1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F61CC4-4F0C-4D75-A14D-A936E2D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238240-D6A5-4E70-9105-561D656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C03B90-B10C-463A-BB88-CAC72CCA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99E689-7465-4AE5-A55F-2337A26E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6D76D-54F1-4384-B49C-A608505D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5B359-520A-48B8-8C2A-80CA3051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D927-BA41-4D38-8474-5FD879F1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1E620-AB96-484D-9554-0BABF442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0EB2-9BCA-4E70-ACDF-57ECF40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A0A-D4C7-4EB4-B031-9E392D9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4C6A5-9E12-4471-AB48-7845DAA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10065-F7C8-4A44-9229-7ECDB5D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8EB06-750C-475A-B8CC-3B79546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BFC8E-677F-43EF-97A8-58882D6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7368D-D502-49EF-A408-52727064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3671-A8EA-4D7B-8362-61753400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2D84-5E46-4F1D-BF10-44B797A7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5AF0E7-7E68-4275-9783-AA90BBF2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7D80DF-A054-4713-B95E-D9D68F5F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57C24-D689-42AF-95A9-F851CE36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697-463F-4B1A-A7A4-86CD4D1618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B860-611F-4E41-9BA1-BF88D0F7B7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7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03FB-536C-4011-A5BC-A64DC635A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2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96C4-92C0-4952-8361-7306AF11F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218A-67E0-4857-91F2-D33B829892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E740-468E-4C56-9238-AF4774FB1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7363-E682-4C69-A699-C49564167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5C2-01D1-4754-8BB8-0CE4F3D9FB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3C0-4392-4CAB-87DD-EC3AC679B0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6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AC1-6714-4D63-A21E-0FF277C09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2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7B59-1D5C-49BE-94BF-632A363F6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8F41-E3E1-46E2-A1F5-76CD61DEC6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 Alyssa DelCamp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1828800" y="457200"/>
            <a:ext cx="5638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s Comida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439640" cy="1523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el desayuno me gusta come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2514600" cy="16794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685800" y="4191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Gof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2133720" y="152280"/>
            <a:ext cx="4419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l Desayu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3581280" y="480060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3429000" y="6491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1055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1828800" cy="158580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7086600" y="2209680"/>
            <a:ext cx="1838160" cy="171612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73152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124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6"/>
          <a:stretch/>
        </p:blipFill>
        <p:spPr>
          <a:xfrm>
            <a:off x="2819520" y="2362320"/>
            <a:ext cx="198108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a el almuerzo me gusta comer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286000" y="15228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 Almuerz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3657600" y="4724280"/>
            <a:ext cx="1627200" cy="167652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581280" y="6491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621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3"/>
          <a:stretch/>
        </p:blipFill>
        <p:spPr>
          <a:xfrm>
            <a:off x="4876920" y="2209680"/>
            <a:ext cx="2133360" cy="164808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52578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Sandw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7162920" y="2209680"/>
            <a:ext cx="1780920" cy="160020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7299360" y="4545000"/>
            <a:ext cx="146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3915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5"/>
          <a:stretch/>
        </p:blipFill>
        <p:spPr>
          <a:xfrm>
            <a:off x="2666880" y="2286000"/>
            <a:ext cx="2133720" cy="15210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4320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la cena me gusta com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286000" y="0"/>
            <a:ext cx="3962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 Cen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133360" cy="159876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76212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2133720" cy="159228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312408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3"/>
          <a:stretch/>
        </p:blipFill>
        <p:spPr>
          <a:xfrm>
            <a:off x="5029200" y="21337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52578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Ta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6934320" y="2057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731520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5"/>
          <a:stretch/>
        </p:blipFill>
        <p:spPr>
          <a:xfrm>
            <a:off x="3581280" y="4267080"/>
            <a:ext cx="1492200" cy="190512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37339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324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postre me gusta com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743200" y="304920"/>
            <a:ext cx="3505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Post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1374840" cy="281952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914400" y="5638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609640" cy="175284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66294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429000" y="525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Gal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2590920" y="1905120"/>
            <a:ext cx="3504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4:43Z</dcterms:created>
  <dc:creator>delcampoaly</dc:creator>
  <dc:description/>
  <dc:language>en-US</dc:language>
  <cp:lastModifiedBy>delcampoaly</cp:lastModifiedBy>
  <dcterms:modified xsi:type="dcterms:W3CDTF">2011-04-14T18:07:08Z</dcterms:modified>
  <cp:revision>5</cp:revision>
  <dc:subject/>
  <dc:title>Slide 1</dc:title>
</cp:coreProperties>
</file>